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C45-615D-4741-B247-FD078D7D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599-52F3-4831-A4E2-3F27EDE1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223-44A5-4397-B9CE-144DF57B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F51-D96D-486C-B973-3600568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70E-62A4-4933-8563-F02CB74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27A-D962-4A44-A18B-31C9CBD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B70-A16F-4FA7-9119-E2D3826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67F-7246-4586-8CCE-F39808D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350-5BB4-4B3D-8F1A-3F49264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9D3-A039-4DC9-9B38-B79515F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776-9F68-4908-A162-1ACFFA7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15B-4D63-4BA4-9BEA-3F3FC5E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FE16-18A9-422F-9ADA-681947931AB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cc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</a:rPr>
              <a:t>Anneme çiçek yaptırd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18T21:10:02Z</dcterms:modified>
  <cp:revision>97</cp:revision>
  <dc:subject/>
  <dc:title>KONU 1</dc:title>
</cp:coreProperties>
</file>